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C55B-EC69-420B-BE1C-DB019E2F4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72A-5893-49C8-9E0F-454B930071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2E4F-5904-43F3-B6DD-04A6FEFE32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oreau paid the highway tax but not the state tax (applies to the next slide as we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C234-5978-4AEB-A93D-7FAA192F5F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ling Thoreau out of jail does more harm than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1A2A-0E43-4497-8ABB-CB0ADFFF58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ster’s backgroun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00A5-AA36-4A8E-9307-34C40BAEFD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from the excerpts, we can tie together the Webster consistency ideas with this id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8FFF-CFFF-4493-817B-0863108BBD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2238-D9AC-4F6B-B6DD-915A2B6B96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dividual should be more important than the governmen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3A34-9888-4D42-97CD-75A19745A2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D750-76BA-4DA0-A0C3-477D4D8CE6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478-C639-4FEA-A82C-1D468ABA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43F-870E-492F-B01D-CEE4D87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3D6-A85D-4168-A443-ED04A8E6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F86-FB82-488A-B2DB-97ABBB8C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6B1-3924-44CA-A69E-FCB8DFDE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2F6-22BB-46DF-81FA-0D4365B5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BA4-AA2A-404B-ACC8-2913C43C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CB1-86A5-4182-9A22-5972DE44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A20-B124-47F4-AD64-ED49A0DC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AB7-2C1E-4548-9A7C-3F252E0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581-84B7-4319-AFA6-E448CEA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F1E-E6C1-4020-83C6-B66596B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41A-6CF7-400F-8DBF-5843672BBD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vil Disobedienc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 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education.jpg"/>
          <p:cNvPicPr/>
          <p:nvPr/>
        </p:nvPicPr>
        <p:blipFill>
          <a:blip r:embed="rId1"/>
          <a:stretch/>
        </p:blipFill>
        <p:spPr>
          <a:xfrm>
            <a:off x="685800" y="685800"/>
            <a:ext cx="3173400" cy="2106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429000" y="304812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V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105520" y="434340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STA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solidFill>
            <a:srgbClr val="d9d9d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Calibri"/>
              </a:rPr>
              <a:t>Who do we  owe our allegiance to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jail b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aniel-webster.jpg"/>
          <p:cNvPicPr/>
          <p:nvPr/>
        </p:nvPicPr>
        <p:blipFill>
          <a:blip r:embed="rId1"/>
          <a:stretch/>
        </p:blipFill>
        <p:spPr>
          <a:xfrm>
            <a:off x="2438280" y="533520"/>
            <a:ext cx="42674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" descr="searching.jpg"/>
          <p:cNvPicPr/>
          <p:nvPr/>
        </p:nvPicPr>
        <p:blipFill>
          <a:blip r:embed="rId1"/>
          <a:stretch/>
        </p:blipFill>
        <p:spPr>
          <a:xfrm>
            <a:off x="0" y="3048120"/>
            <a:ext cx="414324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3429000" y="914400"/>
            <a:ext cx="4800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d0d0d"/>
                </a:solidFill>
                <a:latin typeface="Calibri"/>
              </a:rPr>
              <a:t>Wise people constantly search for one thing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066680" y="205740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Calibri"/>
              </a:rPr>
              <a:t>TRUTH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990720" y="2286000"/>
            <a:ext cx="6629400" cy="1922400"/>
          </a:xfrm>
          <a:prstGeom prst="rect">
            <a:avLst/>
          </a:prstGeom>
          <a:solidFill>
            <a:srgbClr val="7f7f7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alibri"/>
              </a:rPr>
              <a:t>Individual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xter, Maurice G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 and the Supreme Court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66; Brown, Norman D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 and the Politics of Availability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69; Current, Richard N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55; Curtis, George T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 of Daniel Webster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870; Fuess, Claude M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vols., 1930; Van Tyne, C. H., ed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ters of Daniel Webster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02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. N.d. N.p., n.d. Web. 16 Mar. 2010. &lt;http://www.americanhistory.abc-clio.com/ Search/ Display.aspx?categoryid=22&amp;searchtext=daniel+webster&amp;type=simple&amp;option=all&amp;entryid=272966&amp;issublink= true&amp;fromsearch=false&gt;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Building. N.d. N.p., n.d. Web. 15 Mar. 2010. &lt;http://www.livingstonefg.com/ Government.aspx&gt;. Graduation Cap. N.d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us Acces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.p., n.d. Web. 15 Mar. 2010. &lt;http://www.campusaccess.com/ education/index.html&gt;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il bars. N.d. N.p., n.d. Web. 15 Mar. 2010. &lt;http://netjanlaw.com/Criminal.htm&gt;. Man with binoculars. N.d. N.p., n.d. Web. 15 Mar. 2010. &lt;http://www.salsoftin.com/seo.asp&gt;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. N.d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um's New Li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.p., n.d. Web. 15 Mar. 2010. &lt;http://www.juddlegum.com/blog/ category/economy/&gt;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21:28:29Z</dcterms:created>
  <dc:creator>Christina</dc:creator>
  <dc:description/>
  <dc:language>en-US</dc:language>
  <cp:lastModifiedBy>000077hs</cp:lastModifiedBy>
  <dcterms:modified xsi:type="dcterms:W3CDTF">2010-03-19T14:20:47Z</dcterms:modified>
  <cp:revision>15</cp:revision>
  <dc:subject/>
  <dc:title>Civil Disobedience  Section 5</dc:title>
</cp:coreProperties>
</file>